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0DE-2F38-4BE2-B002-09AE32FD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A02-E18E-41B4-92D2-05666ED3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0AE-9FAF-4231-A1AE-5681662C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479-8AB7-4CB6-9DD3-7535C29A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D09F-BA5F-4AE1-B3A8-826ED684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BCB1-4E49-4298-807B-ED253A48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8221-C2DA-48E7-A06B-13E49181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7A7D-FA07-4B12-A2FC-4DF26D3B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24B8-4BA5-4201-AA92-5E16A863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1A8F-DFB1-466C-8D6D-156B6126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A935-2861-41C6-A9CE-346C6029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370-EF4F-4052-87E7-5D0BDCF8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17EC-B8F8-435B-93AC-3AF88B8C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13AC-7A71-4460-BA28-C456385D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E426-798E-4381-B3B8-E4FCEBA3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3F22-4EBB-4832-8CF9-F46A7805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7AFE-8C66-418F-A2C5-B391634D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5CB-08CA-494D-A06E-E72B07F2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4F6-6183-4F8D-B468-1A10CBD3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495-FE50-4AA5-B6AC-790E88F4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397-2B7C-4A43-950D-5257E398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FDC5-155A-4893-B6B3-0AB1A815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A8E-DBA3-4A5E-9E63-12E8A2CF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B0F-F2C5-40FD-8341-259FD5D0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44AD-35F1-432B-B272-D599A7215C4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18AE-6339-432C-87C8-36519774E4F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371240"/>
            <a:ext cx="8226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Becoming Proficient English Readers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Group:  How do students learn to read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pt/Context Building Ide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folktales from native cul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materials from the students background-geographical location, hobbies, events, holiday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stories that have familiar valu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troduce unfamiliar vocabulary using TPR, Visual and linguistic approaches—connec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duct pre-reading discuss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ke time to process reading selections in pairs and group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begin reading selections with hands-on, whole-body, and “being there” experie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ritical Thinking Skills/Strateg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icult to comprehend material we have never experienc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 readers use many strategies and techniques to re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ach reading strateg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k questions while read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e graphic organiz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ake not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ummariz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ciprocal teach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ir-sha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itical Thinking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ding Strateg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ghlighting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irc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ann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kimm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ner spee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sualiz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ding for high visibility wor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ding for detail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-read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itical Thinking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 “Real” high interest reading materials instead of isolated, skill-based reading materia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lp students connect to reading on a personal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ablish a purpose for read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 time to digest in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lp students navigate through the 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ase One – I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d students into the tex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tivate, exci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aw upon prior 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ive students time to reflect and bring their own understanding to the s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activities help lead students into text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o Activ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stening/speaking foc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di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cuss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rainstorming/cluster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atial-films, pictures, art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ng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le play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ecting picture thin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trapersonal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Quick wri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ase Two – Throug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sisting Students through the tex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rough activities should help students unlock the authors meaning and messa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 abstract ideas visual and concre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rough Activ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oral reading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raphic organiz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igsaw read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ocabulary collect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ocabulary build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dentifying sour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llustrating quota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cepts and skill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ntence strip story explor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ell the s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gin writing process activ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ase Three – Beyo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yond activities help the student experience the story across the curriculu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need to synthesize the in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plore content and concepts across the curriculu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yond Activ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activ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tended read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ea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rainstorm other beyond activ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ding is multifaceted and development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to make connections between language, print, and thou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ped by prior experiences, culture and edu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ust bring all their skills to the table-decoding, conceptual framework, language skills, thinking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Teacher Must Addres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ecoding skills/word recognit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Language development/competen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cept/context build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ritical thinking skills/strateg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coding Skills/Word Recogni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on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extualized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ach me how to read using the “Patterns and Programs” my brain has already develop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coding Skills/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ord Recognition Ide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teach the sounds of the new language within a meaningful contex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 what you are saying.  This helps students see the connection between the oral and written wor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the language experience approa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students identify/tell you words they would like to know how to read and wri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students collect their new acquired words in a special noteboo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bel the entire ro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nological Transferences and Inter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2514600"/>
            <a:ext cx="4038840" cy="342900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2514600"/>
            <a:ext cx="4191120" cy="33526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2720" y="308772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panis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4120" y="3240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m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5400" y="263052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glis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373068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,e,I,o,u,v,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,g,ll,y,j,q,z.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99320" y="3618000"/>
            <a:ext cx="123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,p,t,d,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,f,s,n,l,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,c,g,c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l,gl,pl,t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gr, b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r, dr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, fr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oi, oy, 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97720" y="3160800"/>
            <a:ext cx="329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,e,I,o,u, (long and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, ow/ou. Ea, eew ay,au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y/aw, ar, er,ir, ur, oo, ei, ou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g, (soft) sc, si, sn,sm, sp, sq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t, scr, spt, spr, str, sch, sk, s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w, thr, sh, th, wh, sk, ng, ph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ch, ugh, igh, kn, wr, gn, n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84680" y="1865160"/>
            <a:ext cx="44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mmon Sounds transfer easily to Englis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nguage Development and Compet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Language in real communication situ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 interactive and experiential learning to promote purposeful language use that leads to successful second language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pport primary language development at school and at home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nguage Development/Competence Ide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nguage experience approa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a Hand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d alou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lore and enjoy language that comes in the form of songs, chants, raps, riddles, choral reading, jokes, and poem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ate learning experiences where language is greatly contextualized—field trips, classroom/school activities, community events, everyday home experie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sson Plan Hand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pt/Context Buil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oose selections from the students’ cultural backgroun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culturally familiar materials to make sense of new materia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ways begin with realia before moving into tex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5T23:45:47Z</dcterms:created>
  <dc:creator>Jeanette Christenson</dc:creator>
  <dc:description/>
  <dc:language>en-US</dc:language>
  <cp:lastModifiedBy>MLMS</cp:lastModifiedBy>
  <dcterms:modified xsi:type="dcterms:W3CDTF">2003-06-20T16:23:49Z</dcterms:modified>
  <cp:revision>8</cp:revision>
  <dc:subject/>
  <dc:title>Becoming Proficient English Readers</dc:title>
</cp:coreProperties>
</file>